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voltage.wav" ContentType="audio/x-wav"/>
  <Override PartName="/ppt/media/image2.png" ContentType="image/png"/>
  <Override PartName="/ppt/media/suction.wav" ContentType="audio/x-wav"/>
  <Override PartName="/ppt/media/laser.wav" ContentType="audio/x-wav"/>
  <Override PartName="/ppt/media/image3.wmf" ContentType="image/x-wmf"/>
  <Override PartName="/ppt/media/camera.wav" ContentType="audio/x-wav"/>
  <Override PartName="/ppt/media/bomb.wav" ContentType="audio/x-wav"/>
  <Override PartName="/ppt/media/click.wav" ContentType="audio/x-wav"/>
  <Override PartName="/ppt/media/hammer.wav" ContentType="audio/x-wav"/>
  <Override PartName="/ppt/media/push.wav" ContentType="audio/x-wav"/>
  <Override PartName="/ppt/media/breeze.wav" ContentType="audio/x-wav"/>
  <Override PartName="/ppt/media/applause.wav" ContentType="audio/x-wav"/>
  <Override PartName="/ppt/media/arrow.wav" ContentType="audio/x-wav"/>
  <Override PartName="/ppt/media/drumroll.wav" ContentType="audio/x-wav"/>
  <Override PartName="/ppt/media/image1.jpeg" ContentType="image/jpeg"/>
  <Override PartName="/ppt/media/wind.wav" ContentType="audio/x-wav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D220-F62D-44AB-8906-6488E7499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0950-D150-43F3-806F-85AC061E8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2E8-816B-49F7-AF42-7AFC6AB2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2440-2423-48C4-BA84-033342FE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0C9-9ADF-4E5D-BB83-DA525DD0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7E56-03C6-47E9-8FBD-B1336231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883-FF81-48F0-A8E8-5792B499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86B1-37C2-4F5A-86C1-5C6E356C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F3A-4E5C-4ABA-930C-94DC4220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191-E361-4D5E-BA5F-6AED4F59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9C3-AB50-44E6-A3BE-6503D67C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9324-DA2E-4D12-B063-1D51028E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BFE-13FA-4633-B631-B8410D74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A9A9-E345-4AB0-B999-0F2404F1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8A75-B2FB-4C92-923E-94E9256E4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7">
            <a:hlinkClick r:id="" action="ppaction://hlinkshowjump?jump=firstslide"/>
          </p:cNvPr>
          <p:cNvSpPr/>
          <p:nvPr/>
        </p:nvSpPr>
        <p:spPr>
          <a:xfrm flipV="1">
            <a:off x="304920" y="60958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  <a:path fill="darken" w="21600" h="30248">
                <a:moveTo>
                  <a:pt x="7301" y="15124"/>
                </a:moveTo>
                <a:lnTo>
                  <a:pt x="17806" y="8118"/>
                </a:lnTo>
                <a:lnTo>
                  <a:pt x="17806" y="22131"/>
                </a:lnTo>
                <a:close/>
              </a:path>
              <a:path fill="darken" w="21600" h="30248">
                <a:moveTo>
                  <a:pt x="3794" y="8118"/>
                </a:moveTo>
                <a:lnTo>
                  <a:pt x="5456" y="8118"/>
                </a:lnTo>
                <a:lnTo>
                  <a:pt x="5456" y="22131"/>
                </a:lnTo>
                <a:lnTo>
                  <a:pt x="3794" y="2213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13.xml"/><Relationship Id="rId10" Type="http://schemas.openxmlformats.org/officeDocument/2006/relationships/slide" Target="slide19.xml"/><Relationship Id="rId11" Type="http://schemas.openxmlformats.org/officeDocument/2006/relationships/slide" Target="slide24.xml"/><Relationship Id="rId12" Type="http://schemas.openxmlformats.org/officeDocument/2006/relationships/slide" Target="slide29.xml"/><Relationship Id="rId13" Type="http://schemas.openxmlformats.org/officeDocument/2006/relationships/slide" Target="slide4.xml"/><Relationship Id="rId14" Type="http://schemas.openxmlformats.org/officeDocument/2006/relationships/slide" Target="slide9.xml"/><Relationship Id="rId15" Type="http://schemas.openxmlformats.org/officeDocument/2006/relationships/slide" Target="slide14.xml"/><Relationship Id="rId16" Type="http://schemas.openxmlformats.org/officeDocument/2006/relationships/slide" Target="slide20.xml"/><Relationship Id="rId17" Type="http://schemas.openxmlformats.org/officeDocument/2006/relationships/slide" Target="slide25.xml"/><Relationship Id="rId18" Type="http://schemas.openxmlformats.org/officeDocument/2006/relationships/slide" Target="slide30.xml"/><Relationship Id="rId19" Type="http://schemas.openxmlformats.org/officeDocument/2006/relationships/slide" Target="slide5.xml"/><Relationship Id="rId20" Type="http://schemas.openxmlformats.org/officeDocument/2006/relationships/slide" Target="slide10.xml"/><Relationship Id="rId21" Type="http://schemas.openxmlformats.org/officeDocument/2006/relationships/slide" Target="slide15.xml"/><Relationship Id="rId22" Type="http://schemas.openxmlformats.org/officeDocument/2006/relationships/slide" Target="slide21.xml"/><Relationship Id="rId23" Type="http://schemas.openxmlformats.org/officeDocument/2006/relationships/slide" Target="slide26.xml"/><Relationship Id="rId24" Type="http://schemas.openxmlformats.org/officeDocument/2006/relationships/slide" Target="slide31.xm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3520" y="1143000"/>
          <a:ext cx="8076960" cy="473868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371600"/>
                <a:gridCol w="1371600"/>
                <a:gridCol w="1218960"/>
                <a:gridCol w="1371600"/>
              </a:tblGrid>
              <a:tr h="13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cabular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rth –A Home for Lif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es Change over Tim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idence for Evoluti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do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ric Syste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2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3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3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4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4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4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4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56"/>
          <p:cNvSpPr/>
          <p:nvPr/>
        </p:nvSpPr>
        <p:spPr>
          <a:xfrm>
            <a:off x="-130320" y="284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2"/>
          <p:cNvSpPr/>
          <p:nvPr/>
        </p:nvSpPr>
        <p:spPr>
          <a:xfrm>
            <a:off x="5410080" y="6461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3"/>
          <p:cNvSpPr/>
          <p:nvPr/>
        </p:nvSpPr>
        <p:spPr>
          <a:xfrm>
            <a:off x="6284160" y="610380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533520" y="457200"/>
            <a:ext cx="68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 –A Home for Lif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sts think that this is what caused the Permian extinction 250 million years ago and how and why it may have happene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609480" y="2362320"/>
            <a:ext cx="7391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What is what is the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arth’s land masses joining together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causing 90% of the species in the ocean and many land dwelling animals to die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?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The formation of one big continent changed the climate and conditions in the ocea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533520" y="228600"/>
            <a:ext cx="8076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 –A Home for Lif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when, why and how scientists think the Cretaceous extinction happened and what disappeare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066680" y="3354480"/>
            <a:ext cx="693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hat is 65 million years ago scientists think that an asteroid hit the Earth which caused a climate change and the dinosaurs disappeared?  After the dinosaurs died out, many new mammals began appearing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609480" y="990720"/>
            <a:ext cx="74678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es Change over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ative age of a fossil tells you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whether one fossil is older or younger than another fossi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exactly when a fossil was form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he amount of radioactivity in a fossi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how long the fossilized organism was alive on Eart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85800" y="45720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 is A, whether one fossil is older or younger than another fossil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533520" y="0"/>
            <a:ext cx="8610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es Change over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marck proposed that species evolve because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dapt to their surroundings over tim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can pass on traits acquired during their lifetimes to their offspring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overproduce and a variety of species come from each offspring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 laws decide when they should chang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219320" y="4495680"/>
            <a:ext cx="626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 is B, they can pass on traits acquired during their lifetimes to their offspring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04920" y="838080"/>
            <a:ext cx="8229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es Change over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cichlid population in Lake Tanganyika was separated into isolated groups, _____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re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vari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fossiliz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Speci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artificial selectio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983240" y="5181480"/>
            <a:ext cx="405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 is B, speciation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04920" y="228600"/>
            <a:ext cx="7391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es Change over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Lamarck, could the parents of the tortoise from Abingdon Island be born with a short neck?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838080" y="4952880"/>
            <a:ext cx="740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is yes, they could have stretched their necks during their lives and then passed on that trait to their offspring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3657600" y="3124080"/>
            <a:ext cx="4351320" cy="1755720"/>
            <a:chOff x="3657600" y="3124080"/>
            <a:chExt cx="4351320" cy="1755720"/>
          </a:xfrm>
        </p:grpSpPr>
        <p:sp>
          <p:nvSpPr>
            <p:cNvPr id="89" name="AutoShape 6"/>
            <p:cNvSpPr/>
            <p:nvPr/>
          </p:nvSpPr>
          <p:spPr>
            <a:xfrm>
              <a:off x="3657600" y="3124080"/>
              <a:ext cx="4348800" cy="17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Picture 8" descr=""/>
            <p:cNvPicPr/>
            <p:nvPr/>
          </p:nvPicPr>
          <p:blipFill>
            <a:blip r:embed="rId1"/>
            <a:stretch/>
          </p:blipFill>
          <p:spPr>
            <a:xfrm>
              <a:off x="3657600" y="3124080"/>
              <a:ext cx="4351320" cy="1755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380880" y="228600"/>
            <a:ext cx="7086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es Change over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how variation and adaptation may have led to the development of long-necked tortoises on Abingdon Islan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2743200" y="2819520"/>
            <a:ext cx="4351320" cy="1755720"/>
            <a:chOff x="2743200" y="2819520"/>
            <a:chExt cx="4351320" cy="1755720"/>
          </a:xfrm>
        </p:grpSpPr>
        <p:sp>
          <p:nvSpPr>
            <p:cNvPr id="93" name="AutoShape 5"/>
            <p:cNvSpPr/>
            <p:nvPr/>
          </p:nvSpPr>
          <p:spPr>
            <a:xfrm>
              <a:off x="2743200" y="2819520"/>
              <a:ext cx="4348800" cy="17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Picture 6" descr=""/>
            <p:cNvPicPr/>
            <p:nvPr/>
          </p:nvPicPr>
          <p:blipFill>
            <a:blip r:embed="rId1"/>
            <a:stretch/>
          </p:blipFill>
          <p:spPr>
            <a:xfrm>
              <a:off x="2743200" y="2819520"/>
              <a:ext cx="4351320" cy="175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685800" y="685800"/>
            <a:ext cx="8458200" cy="56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offspring of the ancestors of present-day tortoises on Abingdon island differed from each other in small ways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 of these variations was likely neck length. The tortoises competed with one another for leaves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better adapted tortoises, with long necks, survived and reproduced at a higher rate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refore, long-necked tortoises became more widesprea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4572000" y="304920"/>
            <a:ext cx="4351320" cy="1755720"/>
            <a:chOff x="4572000" y="304920"/>
            <a:chExt cx="4351320" cy="1755720"/>
          </a:xfrm>
        </p:grpSpPr>
        <p:sp>
          <p:nvSpPr>
            <p:cNvPr id="98" name="AutoShape 6"/>
            <p:cNvSpPr/>
            <p:nvPr/>
          </p:nvSpPr>
          <p:spPr>
            <a:xfrm>
              <a:off x="4572000" y="304920"/>
              <a:ext cx="4348800" cy="17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Picture 7" descr=""/>
            <p:cNvPicPr/>
            <p:nvPr/>
          </p:nvPicPr>
          <p:blipFill>
            <a:blip r:embed="rId1"/>
            <a:stretch/>
          </p:blipFill>
          <p:spPr>
            <a:xfrm>
              <a:off x="4572000" y="304920"/>
              <a:ext cx="4351320" cy="175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Rectangle 8"/>
          <p:cNvSpPr/>
          <p:nvPr/>
        </p:nvSpPr>
        <p:spPr>
          <a:xfrm>
            <a:off x="304920" y="3049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es Change over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 Answer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380880" y="609480"/>
            <a:ext cx="83822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 for Evolu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zard and a bat have similar forelimbs, but they are used in different ways.  This is evidence that supports the theory of evolution by_________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ificial sele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quired characteristi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ity of structur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371600" y="5334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at is similarity of structure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304920" y="304920"/>
            <a:ext cx="8305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 for Evolu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following pairs of organisms will have the most similar gene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e and flow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er and bacteriu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terium and hum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 and tre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595160" y="4952880"/>
            <a:ext cx="488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at is a, tree and flower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533520" y="38088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mains of organisms preserved in the earth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">
            <a:hlinkClick r:id="" action="ppaction://hlinkshowjump?jump=firstslide"/>
          </p:cNvPr>
          <p:cNvSpPr/>
          <p:nvPr/>
        </p:nvSpPr>
        <p:spPr>
          <a:xfrm flipV="1">
            <a:off x="304920" y="60958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  <a:path fill="darken" w="21600" h="30248">
                <a:moveTo>
                  <a:pt x="7301" y="15124"/>
                </a:moveTo>
                <a:lnTo>
                  <a:pt x="17806" y="8118"/>
                </a:lnTo>
                <a:lnTo>
                  <a:pt x="17806" y="22131"/>
                </a:lnTo>
                <a:close/>
              </a:path>
              <a:path fill="darken" w="21600" h="30248">
                <a:moveTo>
                  <a:pt x="3794" y="8118"/>
                </a:moveTo>
                <a:lnTo>
                  <a:pt x="5456" y="8118"/>
                </a:lnTo>
                <a:lnTo>
                  <a:pt x="5456" y="22131"/>
                </a:lnTo>
                <a:lnTo>
                  <a:pt x="3794" y="2213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752480" y="36576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 flipV="1" rot="10800000">
            <a:off x="2285640" y="3885120"/>
            <a:ext cx="380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at is a fossi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80880" y="685800"/>
            <a:ext cx="4191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 for Evolu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why structure A in the diagram to the right is an example of a vestigial orga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871640" y="4191120"/>
            <a:ext cx="72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at is the whale leg is a structure that was fully developed in whale ancestors; now it has become reduced and unused in modern whale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whale and common ancestors"/>
          <p:cNvPicPr/>
          <p:nvPr/>
        </p:nvPicPr>
        <p:blipFill>
          <a:blip r:embed="rId1"/>
          <a:stretch/>
        </p:blipFill>
        <p:spPr>
          <a:xfrm>
            <a:off x="4691160" y="228600"/>
            <a:ext cx="4452840" cy="34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09480" y="762120"/>
            <a:ext cx="419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 for Evolu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s B, C, and D are forearms of different animals share a common ancestor.  What type of biological evidence is thi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057400" y="5303880"/>
            <a:ext cx="611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at is similar structures with different function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whale and common ancestors"/>
          <p:cNvPicPr/>
          <p:nvPr/>
        </p:nvPicPr>
        <p:blipFill>
          <a:blip r:embed="rId1"/>
          <a:stretch/>
        </p:blipFill>
        <p:spPr>
          <a:xfrm>
            <a:off x="4691160" y="228600"/>
            <a:ext cx="4452840" cy="34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143000" y="762120"/>
            <a:ext cx="6324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 for Evolution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types of evidence that scientists use to support the theory of evolutio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762120" y="327672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What are by observation, fossil evidence, biological evidence, and genetic evidence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752480" y="120024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fac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 of Tim’s robo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446480" y="3124080"/>
            <a:ext cx="28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Moby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752480" y="1219320"/>
            <a:ext cx="4191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 Fac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recambrian time refers to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84000" y="3657600"/>
            <a:ext cx="813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the earliest period in Earth's history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762120" y="838080"/>
            <a:ext cx="7238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 Fac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you should do to the caps on plastic bottle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211400" y="3886200"/>
            <a:ext cx="703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take them off before recycling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990720" y="1200240"/>
            <a:ext cx="670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 Fac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are four renewable resource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0880" y="3733920"/>
            <a:ext cx="805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sunlight, wind, water, trees and other plants, and animal waste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066680" y="1066680"/>
            <a:ext cx="6705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 Fac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ship that Darwin travelled to the Galapagos Islands o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207520" y="3657600"/>
            <a:ext cx="363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ag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1752480" y="1200240"/>
            <a:ext cx="4191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ric syst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centimeters in one me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889280" y="3706920"/>
            <a:ext cx="306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100 cm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1752480" y="120024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ric syst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imeters in one kilomet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113560" y="3448080"/>
            <a:ext cx="37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100,000 cm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066680" y="914400"/>
            <a:ext cx="6934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duced and unused physical structure in an organism, which was more developed in an earlier group of organism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">
            <a:hlinkClick r:id="" action="ppaction://hlinkshowjump?jump=firstslide"/>
          </p:cNvPr>
          <p:cNvSpPr/>
          <p:nvPr/>
        </p:nvSpPr>
        <p:spPr>
          <a:xfrm flipV="1">
            <a:off x="304920" y="60958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  <a:path fill="darken" w="21600" h="30248">
                <a:moveTo>
                  <a:pt x="7301" y="15124"/>
                </a:moveTo>
                <a:lnTo>
                  <a:pt x="17806" y="8118"/>
                </a:lnTo>
                <a:lnTo>
                  <a:pt x="17806" y="22131"/>
                </a:lnTo>
                <a:close/>
              </a:path>
              <a:path fill="darken" w="21600" h="30248">
                <a:moveTo>
                  <a:pt x="3794" y="8118"/>
                </a:moveTo>
                <a:lnTo>
                  <a:pt x="5456" y="8118"/>
                </a:lnTo>
                <a:lnTo>
                  <a:pt x="5456" y="22131"/>
                </a:lnTo>
                <a:lnTo>
                  <a:pt x="3794" y="2213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076840" y="4572000"/>
            <a:ext cx="580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hat is a vestigial organ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752480" y="120024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ric syst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limeters in one met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496240" y="3295800"/>
            <a:ext cx="44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much is 1,000 mm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066680" y="1371600"/>
            <a:ext cx="533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ric syst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meters to measure out 365 years where 1cm = 1 yea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886760" y="4145040"/>
            <a:ext cx="29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3.65 m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1752480" y="12002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ric syst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centimeters in three and a half mete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0" y="3276720"/>
            <a:ext cx="3886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350 cm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28600" y="152280"/>
            <a:ext cx="8686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nes of a whale flipper (left) are similar to the bones of a bat wing (right) as shown in the illustration below. What does this similarity in bone structure suggest about the whale and the bat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4572000" cy="39560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4572000" y="3276720"/>
            <a:ext cx="434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use the same methods to travel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 migrate to the same locati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evolved from a common ancestor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 manipulate objects in the same wa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Jeopardy 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C. They evolved from a common ances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57200" y="533520"/>
            <a:ext cx="6934320" cy="41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pulation of a species becomes physically separated into two populations for a period of time.  Later these populations come together and are not able to breed.  This is an example of__________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">
            <a:hlinkClick r:id="" action="ppaction://hlinkshowjump?jump=firstslide"/>
          </p:cNvPr>
          <p:cNvSpPr/>
          <p:nvPr/>
        </p:nvSpPr>
        <p:spPr>
          <a:xfrm flipV="1">
            <a:off x="304920" y="60958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  <a:path fill="darken" w="21600" h="30248">
                <a:moveTo>
                  <a:pt x="7301" y="15124"/>
                </a:moveTo>
                <a:lnTo>
                  <a:pt x="17806" y="8118"/>
                </a:lnTo>
                <a:lnTo>
                  <a:pt x="17806" y="22131"/>
                </a:lnTo>
                <a:close/>
              </a:path>
              <a:path fill="darken" w="21600" h="30248">
                <a:moveTo>
                  <a:pt x="3794" y="8118"/>
                </a:moveTo>
                <a:lnTo>
                  <a:pt x="5456" y="8118"/>
                </a:lnTo>
                <a:lnTo>
                  <a:pt x="5456" y="22131"/>
                </a:lnTo>
                <a:lnTo>
                  <a:pt x="3794" y="2213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983600" y="5105520"/>
            <a:ext cx="441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hat is speciation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28600" y="304920"/>
            <a:ext cx="457200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aused the forelimb adaptations represented by structures B, C, and 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990720" y="46483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hat is natural selection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whale and common ancestors"/>
          <p:cNvPicPr/>
          <p:nvPr/>
        </p:nvPicPr>
        <p:blipFill>
          <a:blip r:embed="rId1"/>
          <a:stretch/>
        </p:blipFill>
        <p:spPr>
          <a:xfrm>
            <a:off x="4952880" y="228600"/>
            <a:ext cx="4191120" cy="34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828800" y="762120"/>
            <a:ext cx="6172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gment or section of DNA that relates to a specific trait or function of an organism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983600" y="4343400"/>
            <a:ext cx="360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hat is a gen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21932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rth –A Home for Lif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752480" y="380988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hat is insects, reptiles, and mammal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050840" y="161784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rrect order that mammals, insects and reptiles appeared on lan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457200" y="1357200"/>
            <a:ext cx="7467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 –A Home for Lif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multicellular organisms appeared this many years ago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0 mill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3.8 bill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2 mill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1.2 billion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38080" y="51055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hat is D – 1.2 billion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685800" y="762120"/>
            <a:ext cx="685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 –A Home for Lif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the Permian Extinction, about _______ of the species living in the ocean became extinct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50%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1%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838080" y="4648320"/>
            <a:ext cx="66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hat is A. 90%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13:32:56Z</dcterms:created>
  <dc:creator>Groton Public Schools</dc:creator>
  <dc:description/>
  <dc:language>en-US</dc:language>
  <cp:lastModifiedBy>ddwyer</cp:lastModifiedBy>
  <dcterms:modified xsi:type="dcterms:W3CDTF">2009-12-18T20:11:57Z</dcterms:modified>
  <cp:revision>39</cp:revision>
  <dc:subject/>
  <dc:title>PowerPoint Presentation</dc:title>
</cp:coreProperties>
</file>